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206-02D4-4D22-A311-3AF4BAE4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0D0D-0828-4370-A87F-18FE0684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57D-CDA8-41E6-B04D-350347B9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9B6-B052-4DF7-9BF6-A79049F1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1649-F8F0-4FC3-A479-F2AA5C0D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364A-9277-41D9-85EA-5234B714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1B38-1309-40C6-B12B-B97389AE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38E6-FD55-4C00-9099-4512AE6F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644E-FB03-4438-9912-24B52521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E3BF-13BC-4EBC-A508-6D0ADAD9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A197-1D95-4506-AE12-7CD10D39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91EF-9313-4BC9-AB23-B30CA68E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A2FC-41D0-47BD-BFBC-AF4E5C4F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5B49-24E4-45A7-B536-BE5F3CC4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EF08-BFB8-4CB9-AB6F-EA61CA5D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2B8E-F28A-4FBE-9E27-1353C71D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52B1-FCF8-4D66-9546-1728E3A6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19A-E39E-440F-BB32-61090B0D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91E7-5CE5-46F4-A390-CAAD7BBA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8343-D4CD-43C4-B90F-144CA894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53D6-0EC2-4182-AFF1-3B62D338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744-ACB6-463A-B29D-0F4DB4A9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BD66-3077-432C-9B21-869D3D77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339-4B5A-4C96-B4F2-B07AEDCB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CF0C-2E67-44D0-8DF8-A4F5A01D8E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5596-9F90-453E-990D-08343B429D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85920" y="277344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MIERZENIE KĄTÓW. MIARA KĄ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OMIERZ – PRZYRZĄD DO MIERZENI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5184720"/>
            <a:ext cx="60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stawową jednostką miary je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stopie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 symbolicznie zapisujemy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22360" y="1938240"/>
            <a:ext cx="4770720" cy="2979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46280" y="4869000"/>
            <a:ext cx="41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Źródło: http://amar.waw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MIARY 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71640" y="1390680"/>
            <a:ext cx="3286080" cy="2038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246480"/>
            <a:ext cx="3014640" cy="1749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927000" y="5037120"/>
            <a:ext cx="2835360" cy="1820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85920" y="104292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ara kąta prost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46640" y="284328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ara kąta ostr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468936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ara kąta rozwart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62360" y="5543640"/>
            <a:ext cx="53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ątomierzem zmierzono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ąt 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                                                               Przy mierzeniu kąta skorzystano z podziałki wewnętrznej.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ara kąta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jest równa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30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co symbolicznie zapisujemy: </a:t>
            </a:r>
            <a:r>
              <a:rPr b="1" lang="en-US" sz="1200" spc="-1" strike="noStrike">
                <a:solidFill>
                  <a:srgbClr val="6600ff"/>
                </a:solidFill>
                <a:latin typeface="Arial"/>
              </a:rPr>
              <a:t>|</a:t>
            </a:r>
            <a:r>
              <a:rPr b="1" lang="en-US" sz="1200" spc="-1" strike="noStrike">
                <a:solidFill>
                  <a:srgbClr val="6600ff"/>
                </a:solidFill>
                <a:latin typeface="Symbol"/>
                <a:ea typeface="Symbol"/>
              </a:rPr>
              <a:t></a:t>
            </a:r>
            <a:r>
              <a:rPr b="1" lang="en-US" sz="1200" spc="-1" strike="noStrike">
                <a:solidFill>
                  <a:srgbClr val="6600ff"/>
                </a:solidFill>
                <a:latin typeface="Arial"/>
              </a:rPr>
              <a:t>| = 130</a:t>
            </a:r>
            <a:r>
              <a:rPr b="1" lang="en-US" sz="1200" spc="-1" strike="noStrike">
                <a:solidFill>
                  <a:srgbClr val="6600ff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808280"/>
            <a:ext cx="40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ątomierzem zmierzono ką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prost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ara kąta prostego jest równa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90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6640" y="3743280"/>
            <a:ext cx="499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ątomierzem zmierzono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ąt 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zy mierzeniu kąta skorzystano z podziałki zewnętrznej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ara kąta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jest równa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co symbolicznie zapisujemy: </a:t>
            </a:r>
            <a:r>
              <a:rPr b="1" lang="en-US" sz="1200" spc="-1" strike="noStrike">
                <a:solidFill>
                  <a:srgbClr val="6600ff"/>
                </a:solidFill>
                <a:latin typeface="Arial"/>
              </a:rPr>
              <a:t>|</a:t>
            </a:r>
            <a:r>
              <a:rPr b="1" lang="en-US" sz="1200" spc="-1" strike="noStrike">
                <a:solidFill>
                  <a:srgbClr val="6600ff"/>
                </a:solidFill>
                <a:latin typeface="Symbol"/>
                <a:ea typeface="Symbol"/>
              </a:rPr>
              <a:t></a:t>
            </a:r>
            <a:r>
              <a:rPr b="1" lang="en-US" sz="1200" spc="-1" strike="noStrike">
                <a:solidFill>
                  <a:srgbClr val="6600ff"/>
                </a:solidFill>
                <a:latin typeface="Arial"/>
              </a:rPr>
              <a:t>| = 30</a:t>
            </a:r>
            <a:r>
              <a:rPr b="1" lang="en-US" sz="1200" spc="-1" strike="noStrike">
                <a:solidFill>
                  <a:srgbClr val="6600ff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85920" y="1989000"/>
            <a:ext cx="70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ra kąt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streg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est większa o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mniejsza o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85920" y="3032280"/>
            <a:ext cx="58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ra kąt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steg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est rów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85920" y="396864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ra kąt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zwarteg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est większa o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mniejsza o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0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44:06Z</dcterms:modified>
  <cp:revision>10</cp:revision>
  <dc:subject/>
  <dc:title>Slajd 1</dc:title>
</cp:coreProperties>
</file>